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2.gif" ContentType="image/gif"/>
  <Override PartName="/ppt/media/image25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4D1-A4B8-4AED-800A-F7C252DA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1ED-3BA4-433E-9008-72A2D65B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63A42-BD20-4B8C-B1F3-A10BFF6D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AA885-1966-4409-8626-DAF70F8E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DC0D6-0988-41F1-9F6F-9E7FCB55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A94EB-65DE-4EBA-8941-ABBF4367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7752A-404B-41CB-B026-F7B865F9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D8577-6383-4C5C-BD5E-92E95DC3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9C549-E6C0-45E8-BA7A-581DB248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7E92A-EB0A-4E24-B51C-77F5C047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C8ED5-187C-408C-A002-38810371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78EBE-2E75-49E3-B26E-21A81B86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9E0-A2F5-4A7E-83E3-678A970B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9C9F5-32F3-4D98-B174-72CD0A15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F0C96-7326-4B55-B94F-117A510C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A1B39-D9D1-482D-BB73-4D83253C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9C08B-3A09-40DF-807B-1B9B10DB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8AD43-2638-42E8-87B0-872E2D9D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963A7-766D-401F-9D66-6C475706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3B431-C858-4C10-B26F-4D0C96E3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0B624-0DFD-4599-8E66-5B39CEC2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EED49-F251-4157-A0FC-F064B047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5F371-EBA1-44FE-8D7D-3AE16ACF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EF6-059B-41DB-93C0-119C0DF5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5EB62-536F-4AEF-8DAE-074071E7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136AB-9154-4650-B797-219FB8C3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9A216-55D5-48BE-BBD7-735BD137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F9D1F-0E84-48FC-A973-AC0205CD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79851-3F87-440A-89F8-46338F39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F72B7-6A68-4B29-AC16-2DA34EA5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4E106-3E0B-4BFD-9320-D90B56FB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ACCD3-FE61-4FB7-9652-84E85AE6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F3999-E71E-42D5-BB78-97EFAD64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D2498-819A-4D78-9CA5-4E715BBF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DD4B-70EB-45F9-BF83-9AAC74C8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DA415-2D8C-4967-9B53-52535279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C5A71-4AD4-4378-91F1-AF4DDD7E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B8D41-8090-432C-9C56-712FE379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E914D-DC24-4782-A5EA-238873F2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8251F-0ABA-438D-845B-EF3DBDF4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23967-FFC1-4BC6-AC3D-D3D9455C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1892D-CAF1-4F5C-A400-4AD5741B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4D89F-8904-4F27-B6F1-01DFD2A7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3D99C-2193-46C5-9804-B08389E0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F1125-DB35-4DAB-9493-AAF86F4C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3EF6-43A2-4D08-88BF-AD655D5C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6CBC2-9B08-499D-A3A4-39A0D461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0BF00-A488-485A-9A23-324DED71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A56B0-7A2D-41C0-812A-AE34AE7B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5D139-6CA5-48BF-91A3-79FBF23C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8ADB2-EF85-4302-B07C-34D65AFD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FEADF-FAE1-4BE9-A0AB-4D01ECCC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53ACA-B450-4005-8069-938F8828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7761A-37F8-41A8-9CE0-32E94691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A6D85-6019-4E9B-92A1-F63DB430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69BF0-2147-444B-BC89-31E30556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335A-B4C2-41F4-ABC0-257D6B25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5B332-2A1B-4664-82C1-8B222A9E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77C6F-EB6D-49DD-BCE7-A36FF06D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D8EB2-C95C-41A4-88F6-5D393CA0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23240-D997-4554-AC65-526C221B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B45A3-5252-46F8-8505-934590F6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9DD5C-FD6D-4DB5-99D1-9F50090E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8EC10-4691-4FE6-AE23-1C3F9D5A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0953E-A630-4C75-B8C8-563B5E17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888DC-6FA7-4C5F-8304-E9ED4BE1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A9E4D-3F24-488E-8124-0E9188B2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5DD8-F424-467C-898B-C67D0A98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3CF35-453A-4562-948B-439226FF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1C776-E323-47DC-8501-D4EA96B4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2EC75-4ABF-4D1F-9786-14BC60CA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D1ECB-CEF2-4FDD-ACD3-D707C398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EBD0E-2AED-4212-B687-9046D84B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FB381-1FAA-484D-8980-CA736F22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CBDCA-F1F0-4D81-8420-D1C79341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2BAF9-DA4B-4B5B-9423-B809548B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0E050-143F-4914-959A-7BCEEA1C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8A0CD2-0673-4D6A-9060-ACF53BA5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606-31ED-4023-BCA8-61BC1B6C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9E736-B4A0-41D7-979A-A998A710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D6BB6-AF9D-4507-B854-A9F1558D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A1606-1B0A-4A43-AD07-3AA2DEA4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AC98E3-6092-4C90-B2BB-87454615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288AE8-D56E-425F-913A-39AB7B8B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CAE9B-6703-45CA-92C3-C86EC057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F7679-7019-4A15-B526-461C610B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E7F65-F7EC-48B5-A099-58E5908C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8DF7C-3D22-4A53-B5C3-D06A0F12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BCC6F1-2BC8-4A6F-A7EE-BB2223E0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7C05-DF39-4FF0-8BF3-3559FDF1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CFB38-0DAB-4202-841B-35F6A6F7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AF7B6-F8D6-4C9E-8261-4C8EFD29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D4841-412D-4F42-BC41-5EE82120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740ABF-418F-4F1C-89F6-045981AF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65E8A-FE82-4227-92FB-B6E9B599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976A1-4323-41DC-9328-DB1D210F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5096A-B535-4052-905C-1E17B324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A0CB0-8BC3-443A-9E43-39B3B150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3AE53-3FE1-4B2D-B4B0-864F1A68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509A1F-90AE-416E-8469-0E8B4BB1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8C75-76E3-4D27-846F-4DB747EF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566A5D-ACF8-4FC2-B513-D2A74BE1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A7113-6573-4305-9DBA-08AB9CAD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68C45-3FB3-45FB-9100-C72495C3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250F70-4DFE-4E1A-A6D5-4D52040A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4D533-EA2B-4613-9603-1CD560DC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037B4-F111-4DFE-9B28-27D38748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2BA01-83C9-4A78-90B7-F5346F34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21217-B08C-4BDD-AF4E-0EA3C7FC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E5BF4-BEAC-40B5-8E1C-ADA21B92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27AE5-D14B-4627-8C7A-45EDA18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6C6-91AD-45FA-A519-A1A2BCF5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14F2-A783-4CCF-8E3D-F574FBAB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3319B-16A5-4080-8BC5-FD6AE57D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5C5B3-8E2B-4726-97C8-A07EAE96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7EA96A-D5E5-40CF-9097-161EEBC7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CCE84-6467-48BF-AD2E-47E9370F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C340C-E3C5-43A4-9B9F-23F6392B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8AED99-7E52-437F-896E-FC21192E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BDA595-223F-4236-86A1-6C3CB984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BDE7FF-0CDE-474D-9932-182215FC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210E2-F4B6-44DA-9AEB-D3EEC136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DC6004-0858-43A1-B7CF-651B0EDC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D3F2-43CA-48B5-B8A0-D073716A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EE970-BA1F-4283-8500-00938075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3323F-BE54-4832-95B8-3F2E045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32EC97-4ADE-4E98-8F2C-E972AEE5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871C81-4C86-44EE-8AED-AB96D7F0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3B4BC5-2DC9-4052-AB21-B6AE3FA6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2B36F-56C5-4EEE-A720-5C9E935A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AE57A-5658-4730-8E9A-4E29E5C9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D2ABC-5B19-4F09-9B90-530D5D08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8902B-52C0-4DE8-9987-0F659C35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FB47E-67A6-4859-87C0-58287833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3521-5036-42AB-BC74-843D90CD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5A0D72-C6E2-4D1C-8C4A-6DE2F4F6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75E2D-C914-40C1-AFBC-97BE5902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E9ADA4-482B-4731-8CE8-AF9431AC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54132-D009-452A-8694-0683A76D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98A51A-1C05-4FB8-9996-DA9D32FD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51F53-1699-4778-9E5D-791A1827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3CF58-01A3-4C17-812F-715C6ECB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7B0C19-CD9E-4C63-9212-B453C693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A8F04E-23A6-4B3C-BEB7-AED9A08C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C01C0-7864-44C7-B484-1D75ABBE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6D57-3540-475D-8E23-275B09A1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499C2-3E42-4312-9929-E7C1D3D4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07157-C5F2-45FD-90FE-6DC740D8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D43B16-1EB6-4BB6-83A3-0097BA0E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4AA01-DF80-4822-BBED-BAC60341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079314-8426-46AC-8D61-EF11A794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6522C-387E-477E-9C10-5919E86F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B688EF-FD64-41E6-8781-F9B789E1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6BDE41-91DE-4996-B7B8-B7C62AF2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BE2712-75C7-4794-9853-9070E1B4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961E9B-D3EF-4EAB-9043-9463F4DA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FA69-FF70-464E-B5CD-BA1F9A32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1D1BEA-5C7C-4FDD-BF2E-A9050F65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8E51C4-892C-44D3-B0B3-B01B68EC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4B663C-D849-4E8E-A1BD-F1CFDE05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100869-476A-4B75-A847-E1AE67EB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15704-EDBE-466D-94A5-BEB22B7D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7056F-578C-4331-8D26-597EEC51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9C566-7F6E-4EAB-957D-36B7395F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9DDB57-BA0F-4FE0-AEAD-F75FFB2B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BB2F6A-7279-4846-B902-E592E8C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A695B0-2305-46EB-B9F2-AF8967E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CC83-740B-4A04-93DA-C689F749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40A06-A035-4521-A657-D3EA0212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33F3ED-B05A-4FBE-8904-85CDA3E0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CB1AC4-D1BD-42DF-BC81-D0B0B95A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087D68-DBF7-4557-9D9C-4C9F003D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127888-7C4F-4207-84CA-785FE221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7B2B2E-E8D1-4BD9-969C-A8CAD590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407325-94F7-4DD4-816C-5F99E023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95044D-1A9E-414B-B024-795DD2B5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13A6AA-3178-4139-9770-87A9669F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548DB9-7E1C-4290-904C-A6D578AA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8198-EC54-4061-8DAD-6A449DE2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7D2B28-9FCA-4E93-8F39-DD5AC74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EE0A6E-EAEC-4137-90A7-00604F61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362619-A28A-42C3-9615-BB2765D3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C915A7-8EF2-4948-9DD6-DA0AA351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3FD183-6A59-40E6-803F-D9D4C3F7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E2D7DC-284E-4DB1-8416-ED1106CD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547BC1-957B-4D94-943B-774783BC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8EBE2D-79D8-486D-9A28-482348B7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D6FED3-4DDE-44C7-AA87-1E2A7FD8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385F15-70C6-451A-A171-461494CC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77FFF-961C-4A02-BFCD-1DE27FE0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855822-CC31-4EDB-BE74-7D8FE975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084699-CF31-4225-A225-B8785DE7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E2134A-2F61-42EF-95FC-1BEB2EF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F59B39-EB04-4DFB-8CE6-BE8CF774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E446EF-61A0-4B3E-978D-F19358B2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DD06B4-FC79-4C6D-BF87-69B28434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A9176F-CCA4-483F-96E9-CA4CB78E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3DE756-32A4-40ED-BBDB-45125B23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F6A12C-72FB-4E6D-8BDF-6CD86CB6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044434-0CFD-49EF-8C97-210F4AC5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C22E-99A8-44EE-807C-ED32E415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9AF586-9AB5-44A3-95D2-BF8FD82F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575F5C-F48D-4C90-A07F-B8F9830A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C33459-3732-4737-83B4-15151739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19CC8B-F686-46A1-AE87-2AAC5695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B747B9-B3D2-45E4-A4D0-4F2F1E43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681093-54C7-4FA9-949C-936CCDA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BD6A44-0B95-4F34-8C8A-832DEAE7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16E5C6-4431-499B-9902-260D0341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EDBFE5-186D-4D1B-B327-6FCDA525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40D5AF-AF0D-4C62-BC58-E5C2AACD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213B0-35C6-4EBB-B31E-618E6FE2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B896AF-8AFF-4FDE-91BA-295BC0A5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502177-2DFB-4D16-B358-ABEEB8D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FA0EB0-01BE-4CC6-9CEB-0A4E5419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87E37A-C942-4758-A09B-8672281D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5D1FC0-06BA-4A08-807B-39D79296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263715-F912-42DD-B1E8-34FB325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3D90E6-7067-4EE3-8341-D4F23CE9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874E82-6A0E-461B-A8B9-61189BCB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7C2131-C8DA-4E94-BFAD-A9B7F00E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E73D8F-8A59-40C1-8DBB-3543F56E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B9C-9389-4CCC-A9D0-D3FAC914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C445-755C-4912-8D5E-2BE24086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8A3230-F7EB-4712-A9DB-2D4F5638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C8FFAA-FCE0-40C4-B904-199B838A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7A87BE-F672-4830-9EDC-03CB8075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5023FB-F385-4165-BAA2-9D0CC4B8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6E69C7-4E87-4E84-AD6B-6923C512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93761E-4AEE-4DF5-8620-A54D0DBF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A1928A-8297-47B7-903D-48C9B49A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EC115F-7FE0-49B4-A4CC-109D03E8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061B99-E82D-410C-A2ED-570F9CEA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B6B665-6E15-4F35-8863-BFA86E90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8D4BF-563A-497C-934A-D6127679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63BCCA-B22A-4224-B340-EB936260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DAF347-53ED-467D-A95A-D5623B2E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34C0FF-33DE-4ED8-B331-C0287B49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5DEC31-79EC-4E39-ACC2-34465B10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65E37D-1CC9-4447-B716-93B0455A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9F3BD1-5C20-4BD4-9678-F042200E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A3AA4E-BF83-49A1-83D5-AC078B86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C55966-3F65-4957-9739-E276AE4A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CCFC87-A7B4-4E99-8816-E8F85E70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7088BE-D057-4BD4-A866-7FCB0D6D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FCEC-8015-4992-95F4-884C76A1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1002A1-BE8D-4A98-B282-76DB34DA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252A62-E494-4B54-A1A1-16B32509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4042C8-A5F9-4706-80D0-7741BC71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9B1BBD-E41B-4E28-8329-B8257BEF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62E24A-76A6-44EE-9FC9-548FF573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014FF5-F342-4E61-9F04-8ACC7B08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0BA124-ADAF-441B-BA61-80A69320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D46424-41DE-40B8-9057-8BDC2545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3933DF-398B-465C-9C00-3105F748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636173-56C1-46AC-9179-C69C3B7B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12B0B-1E93-4433-9150-8B73EBBA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3A5C41-6F2E-4EE8-9E8A-C22D28F9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33FAF0-5906-43A0-863E-9799F883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88D079-00DF-459F-92FC-A21591A8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6A8F10-FA24-4B34-B6AD-2B16A09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5E8005-58A8-4A45-809B-5BFF5686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135DF4-81DA-4C04-9759-B3EA9D7C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06F468-44CE-4A8A-91CA-7120BD59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5C8700-F4CF-4514-B60C-75B93D64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8F6B00-2B1B-4EA6-B5AE-0D78BD16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637D3E-B895-4F17-9B64-3C57D82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89231-D285-43AD-BA87-32D7E519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7174AA-3414-45F7-8EB2-5D4A8F31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008D2E-0484-4576-A65F-178D3001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BA26D3-C49F-445B-A218-A7B6EB67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E739DE-4027-4B0C-9FC6-75428FFC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40BAD5-9ED0-412B-A390-649FDF0A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2A2447-82C7-4F36-82B6-A687EF9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3E3679-A8EE-4320-AF0F-487E4663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676EBF-A385-4EE0-B7C8-74A610C6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5FB958-3851-4F22-B2E3-454903F5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321FCC-9EBD-4D10-941F-C3F2CF97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8064A-7ADB-4A66-9746-9C3AFD66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D0109A-FEC9-47EB-B20A-C4B9C133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6A0FD2-EA2A-490B-9AF6-8839F5BE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80CA8C-D22E-4C0D-BCB5-2CEBD5A5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6C718B-6FB9-4DA2-8F1F-427C123D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A1E231-666F-4D75-AE41-99CAA2C9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4C5875-ECAB-4FA5-9C25-1C5F8F2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A8F317-BD97-4789-B313-02F4468C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380B6F-E8E2-475A-99DE-678FA6C5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8C4E4B-2C91-4506-A9E1-6E084E51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95BC51-006D-4DCA-9E73-3D3F0081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337BB-7F15-496F-B967-D32FC29E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10ACF6-09BA-498A-A446-72884C24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F3487D-7159-4796-8B63-3D5A9B26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6DFC2B-6E49-4E3A-A14E-2245752D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6DBC98-ED80-4CC1-835C-904D7412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FC46AE-D8A5-4C1A-989C-CDD41DA2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E4C4FF-1B0C-469B-BEA9-F3E5137F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82DB42-BE96-4CC1-8DD0-DF164A6C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35C3DA-A53D-4158-9BFE-610AE1C1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840955-1DD1-40B8-B690-FF77B815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FBD94A-A4B3-4E52-A3F3-03E53F07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D05A-EA84-48AA-AD35-227B5520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8F1BC2-2914-4773-81EB-09DA059E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7598E2-1C71-406E-B6EA-F04F0BE7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76DE00-470E-4C1A-B3C1-B7A2F116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0EC695-8345-408C-87E2-62BE1295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C369D7-E3B9-4CE1-8C23-BDB23772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54FEC1-EE0B-4B90-B012-E551DB95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69FCAA-E873-4BB7-B27C-F55D6E84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14E410-ECAC-4B4F-B56C-09EE8F5F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52E914-FEE7-4766-A6AE-D15BC2F2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58C028-90BA-4928-8C2E-CF9718EB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A4DF-50A8-4B74-823B-062B6188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98858B-3A52-4B03-B68B-FBD996E8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05C61D-49D0-449C-9B4A-712FF5FA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AA3195-6244-4822-BD1F-CBF12CFA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029425-1D19-45BF-90B4-DB95C8D3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939BCE-FE52-468D-A352-6023A390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01844F-D15E-43A9-B46A-7B14D227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86EFA7E-F6DC-4FF0-B26A-A4E69AEF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112E35-0C3F-4D63-84F5-E07B59C8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CB8EA4-32EC-4B5A-8500-5279A1A0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134043-7186-4599-8177-70120CD7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52498-AE13-43D0-935D-8567DF06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F34DD3-FDFC-4A54-BEC8-FB4C24D7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5DDC42-7274-4F47-8966-C76B3811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795C35-65CD-46A2-8ABC-78D41536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13B7C4-103A-498B-9FF9-26347EE3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E15CFA-2B8B-4CD3-85CB-5710A0AC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406A9E-6F97-4D96-ABFA-58A00217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DD303AB-1E49-450C-8EFD-1CEAFEA9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E49D9D-0779-4667-B977-B99045BC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6CBA96-8525-40AA-849A-0B062042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346251-861E-4D65-BF88-1CBBA4B6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17A-208D-47A1-8DCE-6B56F845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B838-8686-462D-A3FB-8AF05D5F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B97E01-B0B0-4953-A278-CF655C9A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B4E6A1-9CF0-4D9B-8C63-4A7C1571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26F4FF-D5FE-4A16-97F5-3F152A1E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6BC12B-1370-4A1A-8F33-ACF3128A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B4432D-F6C7-4FB0-950E-6CD79163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FDAD8B-40D6-40A4-8573-3B4E2A4E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EFB6D0-4D8C-4130-994D-E37CB6A4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AF2DA6-EF90-4B31-9ED4-18E6E051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40A039-0DAB-42E7-AB50-8F70E786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4350CD-1EA2-4014-9FF8-43DEED04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855A-2DCB-4E1E-A2CE-ECC7723A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DF82F2-6418-4562-A510-5E4515D1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D82BE6-3AA1-4710-B2D2-08EDB76A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10EFD0-9C11-4965-A938-3796EF7F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6D0B01-B1FB-4BC2-90B4-8B05D604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9C08D1-AC71-4355-9078-3A0F2E5D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44DD51-AE36-4A2B-942E-3EBFDE4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D2FC0B-26AB-4C4B-AEDF-34E94916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13162F-FC50-45D4-84A7-2B9FFEE5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FB4185-E8A7-4C67-903B-45055433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820B48-DCE5-49F4-90D2-AD4065B7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7494A-2759-48C0-90E2-286FA5A1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C41BE8-9E2A-4763-BDAA-A624DE85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77F4D1-7FF9-4B86-A3E2-BEF6E2AF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7FD96E-1FAF-4A63-B8F2-2B175EEE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AFBA78-40E7-4900-89A9-ACFB5172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1B5B26-F8FF-49C7-A7E3-A0C87189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12B12E-6DFF-4003-BC77-7BC6DFC5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731263-E1B9-4FF8-AABA-01E5FC42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5C29D0-98A3-486A-BBAD-E576E143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54BE32-5D23-4A96-A9F7-3337BF9F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3B1E19-269E-4E77-85A3-01F824CF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982D-B5DC-4595-8C87-11992C2F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75F817-AB5E-4ED8-8742-9F1758A7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BCEB04-B0CB-4C10-830A-8F22E1C2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C5FC79-727F-49E1-B06E-086C25C8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4A8220-3ABB-4B03-BC2D-373221C2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6B82EA-784A-439A-BF9E-ABB1D21E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035FE2-7B9F-42CC-82E5-786F93FD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EDCC46-9B4D-43B0-9E34-481AEF8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D457C4-9203-4FFA-AEAE-64A923B9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E49838-69F9-4D96-AB3D-302633B4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3845E5-19D4-474F-A91B-DA268047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0B0B-B4BB-4754-AC55-CFA3C4D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6654A0-AF36-43E8-9192-4ED76743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0833D3-75B3-4AAA-B58F-D6A3662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9EE947-8071-42EC-BF9A-F017ED9F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FCC762-09C5-438D-9C43-2BEF6F79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9F404B-A09D-46EE-B8B0-CEA128D0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4D650F-5ED9-47C8-BBEA-6EC5C2CA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4D5F8F-86E2-4175-8297-3B7C82EC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C8D025D-5A4D-4497-8534-0E964492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085E3B-0655-4F70-8AF8-DD6F4990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A0BA1F-ABEA-4804-B2B5-53BB638C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A3071-BBE9-42E5-A4BA-F8C99C42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4158AF-6A4D-444E-82F3-348A42D3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794A68-D576-4B7A-9E1A-803EC119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51D52C5-E3E5-4432-9A27-2F1ED791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BF5F44-3E12-4590-89DD-4D04160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AAC79C-6AE0-4706-9C25-762524DA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C34B34-6361-4B20-9130-24CD3EF8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72D65A6-FA8D-4334-B041-8D633C01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9C3EB-80F1-4CDA-82AE-E7CF9D6A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62254-B254-4508-9E24-DA9F643C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2D78-593E-4BC0-9FC8-A49BD330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35595-24FA-47D7-AA95-4DFEB42D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8B3-3126-4A22-8CEF-B4CFB44F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40FDE-9986-40F9-A315-15CC02CD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ED4F1-B81A-432F-AB86-87FBEE83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1EE34-4949-4C87-BAF3-64E139AF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0BD0-3515-4F20-984C-B4727DA5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8F6DE-A223-46F8-93E1-79EB6ABF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CE349-91FF-4253-99FB-36C91672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33242-F127-403B-A8C5-30D704C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E2A5-FE22-41DA-9177-220A7B0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E4BBA-44F0-476C-B475-09228577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AD28B-06FF-471D-A118-009AFFD2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57A-57B4-4B9C-8FA0-51C62018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2BFC7-1E30-46C7-8FA6-D293C152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D3445-3A0C-44E9-927E-0495129C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224EC-A96B-4DDC-983E-8C68D341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49B4E-3301-4BDF-9525-5B99ECBD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F58F3-55D6-4FBC-B64D-FAB76887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5DE00-ADE0-4EF4-A980-7FA77F07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93F19-AC90-4F44-88EB-61418007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5AD3-DD1C-4E52-8A5E-CB3E8F5B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F7D3F-94DC-4AF9-8513-FA5D341B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9C82E-A6EE-4130-84D6-E996AEC2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8DB-82BE-4540-BBBC-CC8885F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9CAF-3E27-4CEB-8538-6A4AF10F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C2675-74E2-4B80-B581-F47FF88F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023A9-F484-465D-84B5-E495726B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89372-00DC-4838-BB80-1382E514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38105-719C-45F1-AAFB-5FC8B64C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17A9A-BA17-4F4E-BD4D-40ADC767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7B5CD-F3E9-407F-9F2A-90A47001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8456B-6EF5-4748-85F3-32B2C4E2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9464C-66B1-4CB7-949C-77FCA39E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F28D4-61BD-4380-8DCB-C8F20105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A95-3869-414F-B8EF-11AB72CC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C1F32-A53F-4E09-8398-AEF1DF90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7DE7C-11A7-4694-8F73-255C6480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0A10A-9AB8-459A-9B91-528326E8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60E3D-3527-42D0-955A-CD5EDC8B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B4369-20B2-4832-9829-7939FF03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B7152-48BA-42EB-A321-7B70B4BF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C750F-FC6E-428D-B162-D86D5A79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8E1DC-B973-4409-B8E8-B1A5909E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BA698-33BE-4816-A25F-A6EC9977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9E6AB-49A0-43EC-BAFA-9DE63D4B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27E-D3BD-425F-B0B8-85C5EBDD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345D4-7B54-410C-B919-1E5525D5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E7634-D850-4DD4-8FC1-EB76E3F9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3DED6-12A2-43C1-8D0A-B26887B5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BE5EC-9E7A-4B2C-8984-29F8455F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16B99-D68E-4D91-961B-4EF7A33A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C3812-5AD5-478F-924F-7F3E2D0A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DDE18-AF1F-4A24-941F-3DB04EB4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F10D9-E7E4-4E7E-AB1C-3C495780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B2F6C-3690-4632-8F1B-59AC133F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CA4B4-4BEF-4A85-B916-5A7AB457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1BAB-1E0D-4E71-95E6-FDCD867C6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9682-5768-405D-A6D2-ADA30691B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11DB-8516-4D03-98FC-B3D386DAC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7CF4-BC47-4E15-BFF0-86CBB6170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A630-698C-4DBA-A34D-1596F71C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6DD5-003E-449C-A0D6-186542CBD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D82E-90B8-4834-8E7A-E6A8001EB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80C4-23AF-4319-9A71-A94781CD9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ED2C-6EEB-432E-B032-16B0E10CE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58B7-0A88-46FA-AADD-974D89C7F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DA0E-F51F-46D4-BC7D-CE7A6817E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D1BD-6682-44C8-BD72-3EA1F93A8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40C2-667F-4411-B74E-C824D7F74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050B-AC75-4B77-85D7-8B760A268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05DA-49E8-4782-AE7A-BCDB7E3FA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9337-C570-4E4D-B9C9-7A2F5BB66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6DBF-4D7B-4036-BF77-D4658D7B6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4100-106B-46BE-9A94-7FAF16450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CA92-D083-4496-BC6E-9561056F4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B7AA-E63C-41B1-B266-C62B4A15C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9C60-B9BF-4552-9356-45BC8DE10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7FD7-42D7-45F2-BD99-024E4D33B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B2A8-2B21-4112-9D6A-98E834E1C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75F9-C571-41CD-A956-F9E1072C4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A8DF-D1DD-446E-8CD8-AD5C109B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7373-C56A-4810-9A93-47A9C72E9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3FF2-FA4B-457A-8AF8-4430DDBA1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0147-AE8E-4576-95D8-9E82BDF1B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BE65-2885-4387-B02C-7DB28C088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1BB7-226F-4846-9010-B39CA4227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BD92-E980-4FAA-9DC5-247D0A072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1B8B-4316-4AE2-88D1-D075ABB10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28BE-968E-457C-BF99-BB8CC6104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4466-C576-41B2-8656-796DA0DC0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09F7-4302-415F-ADCF-79589877E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7209-3F49-4404-92E6-A0EC56FCC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E5B8-DECF-44A9-B53F-A7836429B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A75B-950A-4E34-8E3C-14AAF7A09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du.pe.ca/southernkings/landforms.htm" TargetMode="External"/><Relationship Id="rId5" Type="http://schemas.openxmlformats.org/officeDocument/2006/relationships/hyperlink" Target="http://members.enchantedlearning.com/geography/landforms/glossary.shtml?p" TargetMode="External"/><Relationship Id="rId6" Type="http://schemas.openxmlformats.org/officeDocument/2006/relationships/hyperlink" Target="http://www.google.com/earth/index.html" TargetMode="External"/><Relationship Id="rId7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4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9-19 &amp; 2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Mystery Island Project Due Friday      *Geo. Terms Test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25"/>
          <p:cNvSpPr/>
          <p:nvPr/>
        </p:nvSpPr>
        <p:spPr>
          <a:xfrm>
            <a:off x="0" y="990720"/>
            <a:ext cx="3962520" cy="3683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9-19 &amp; 2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land formed at the mouth of  a river by deposits of silt, sand, and pebb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narrow strip of land bordered by water, that connects two larger bodies of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narrow waterway connecting two larger bodies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34"/>
          <p:cNvSpPr/>
          <p:nvPr/>
        </p:nvSpPr>
        <p:spPr>
          <a:xfrm>
            <a:off x="2514600" y="1905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35"/>
          <p:cNvSpPr/>
          <p:nvPr/>
        </p:nvSpPr>
        <p:spPr>
          <a:xfrm>
            <a:off x="3021120" y="2938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sth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36"/>
          <p:cNvSpPr/>
          <p:nvPr/>
        </p:nvSpPr>
        <p:spPr>
          <a:xfrm>
            <a:off x="1295280" y="3886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r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Picture 45" descr="green isthmus"/>
          <p:cNvPicPr/>
          <p:nvPr/>
        </p:nvPicPr>
        <p:blipFill>
          <a:blip r:embed="rId1"/>
          <a:srcRect l="0" t="21801" r="10001" b="14382"/>
          <a:stretch/>
        </p:blipFill>
        <p:spPr>
          <a:xfrm>
            <a:off x="0" y="4237200"/>
            <a:ext cx="5486400" cy="262080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47" descr="Strait_of_gibraltar"/>
          <p:cNvPicPr/>
          <p:nvPr/>
        </p:nvPicPr>
        <p:blipFill>
          <a:blip r:embed="rId2"/>
          <a:stretch/>
        </p:blipFill>
        <p:spPr>
          <a:xfrm>
            <a:off x="5465880" y="3581280"/>
            <a:ext cx="3678120" cy="381024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49" descr="delta"/>
          <p:cNvPicPr/>
          <p:nvPr/>
        </p:nvPicPr>
        <p:blipFill>
          <a:blip r:embed="rId3"/>
          <a:stretch/>
        </p:blipFill>
        <p:spPr>
          <a:xfrm>
            <a:off x="3886200" y="1033560"/>
            <a:ext cx="52578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Picture 1026" descr="Fr-island"/>
          <p:cNvPicPr/>
          <p:nvPr/>
        </p:nvPicPr>
        <p:blipFill>
          <a:blip r:embed="rId1"/>
          <a:stretch/>
        </p:blipFill>
        <p:spPr>
          <a:xfrm>
            <a:off x="685800" y="609480"/>
            <a:ext cx="8001000" cy="5872320"/>
          </a:xfrm>
          <a:prstGeom prst="rect">
            <a:avLst/>
          </a:prstGeom>
          <a:ln w="0">
            <a:noFill/>
          </a:ln>
        </p:spPr>
      </p:pic>
      <p:sp>
        <p:nvSpPr>
          <p:cNvPr id="1585" name="Text Box 1027"/>
          <p:cNvSpPr/>
          <p:nvPr/>
        </p:nvSpPr>
        <p:spPr>
          <a:xfrm>
            <a:off x="4267080" y="1295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028"/>
          <p:cNvSpPr/>
          <p:nvPr/>
        </p:nvSpPr>
        <p:spPr>
          <a:xfrm flipH="1">
            <a:off x="35049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oup or chain of islands clustered together in a sea or oce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chipelag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0" name="Picture 7" descr="The World Archipelago, Persian Gulf"/>
          <p:cNvPicPr/>
          <p:nvPr/>
        </p:nvPicPr>
        <p:blipFill>
          <a:blip r:embed="rId1"/>
          <a:stretch/>
        </p:blipFill>
        <p:spPr>
          <a:xfrm>
            <a:off x="3733920" y="2362320"/>
            <a:ext cx="4647960" cy="403848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9" descr="Click to show &quot;archipelago&quot; result 4"/>
          <p:cNvPicPr/>
          <p:nvPr/>
        </p:nvPicPr>
        <p:blipFill>
          <a:blip r:embed="rId2"/>
          <a:stretch/>
        </p:blipFill>
        <p:spPr>
          <a:xfrm>
            <a:off x="990720" y="2133720"/>
            <a:ext cx="2286000" cy="373356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5" descr="http://members.enchantedlearning.com/agifs/archipelago.GIF"/>
          <p:cNvPicPr/>
          <p:nvPr/>
        </p:nvPicPr>
        <p:blipFill>
          <a:blip r:embed="rId3"/>
          <a:stretch/>
        </p:blipFill>
        <p:spPr>
          <a:xfrm>
            <a:off x="6858000" y="838080"/>
            <a:ext cx="12002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WordArt 5" descr=""/>
          <p:cNvPicPr/>
          <p:nvPr/>
        </p:nvPicPr>
        <p:blipFill>
          <a:blip r:embed="rId1"/>
          <a:stretch/>
        </p:blipFill>
        <p:spPr>
          <a:xfrm>
            <a:off x="835200" y="828720"/>
            <a:ext cx="717516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4" name="Picture 9" descr="http://floridagulfofmexico.com/images/gulfmap.jpg"/>
          <p:cNvPicPr/>
          <p:nvPr/>
        </p:nvPicPr>
        <p:blipFill>
          <a:blip r:embed="rId1"/>
          <a:stretch/>
        </p:blipFill>
        <p:spPr>
          <a:xfrm>
            <a:off x="1905120" y="129528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95" name="Rectangle 2" descr=""/>
          <p:cNvPicPr/>
          <p:nvPr/>
        </p:nvPicPr>
        <p:blipFill>
          <a:blip r:embed="rId2"/>
          <a:stretch/>
        </p:blipFill>
        <p:spPr>
          <a:xfrm>
            <a:off x="5389560" y="3139920"/>
            <a:ext cx="2936880" cy="114012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" descr="http://members.enchantedlearning.com/ggifs/Gulf.GIF"/>
          <p:cNvPicPr/>
          <p:nvPr/>
        </p:nvPicPr>
        <p:blipFill>
          <a:blip r:embed="rId3"/>
          <a:stretch/>
        </p:blipFill>
        <p:spPr>
          <a:xfrm>
            <a:off x="1143000" y="914400"/>
            <a:ext cx="1200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WordArt 3"/>
          <p:cNvSpPr txBox="1"/>
          <p:nvPr/>
        </p:nvSpPr>
        <p:spPr>
          <a:xfrm>
            <a:off x="1371600" y="1447920"/>
            <a:ext cx="5943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lligraphy"/>
              </a:rPr>
              <a:t>What is…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2286000" y="2666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Calligraphy"/>
              </a:rPr>
              <a:t>A body of land that is surrounded by water on three s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0" name="Picture 9" descr="http://upload.wikimedia.org/wikipedia/commons/thumb/f/f6/Satellite_image_of_Italy_in_March_2003.jpg/250px-Satellite_image_of_Italy_in_March_2003.jpg"/>
          <p:cNvPicPr/>
          <p:nvPr/>
        </p:nvPicPr>
        <p:blipFill>
          <a:blip r:embed="rId1"/>
          <a:stretch/>
        </p:blipFill>
        <p:spPr>
          <a:xfrm>
            <a:off x="457200" y="1447920"/>
            <a:ext cx="4952880" cy="404784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WordArt 3"/>
          <p:cNvSpPr txBox="1"/>
          <p:nvPr/>
        </p:nvSpPr>
        <p:spPr>
          <a:xfrm>
            <a:off x="1219320" y="914400"/>
            <a:ext cx="655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Goudy Stout"/>
              </a:rPr>
              <a:t>A Peninsul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Goudy Stout"/>
              <a:ea typeface="Goudy Stout"/>
            </a:endParaRPr>
          </a:p>
        </p:txBody>
      </p:sp>
      <p:pic>
        <p:nvPicPr>
          <p:cNvPr id="1603" name="Picture 6" descr="ag00037_"/>
          <p:cNvPicPr/>
          <p:nvPr/>
        </p:nvPicPr>
        <p:blipFill>
          <a:blip r:embed="rId2"/>
          <a:stretch/>
        </p:blipFill>
        <p:spPr>
          <a:xfrm>
            <a:off x="5257800" y="2743200"/>
            <a:ext cx="1303200" cy="1714680"/>
          </a:xfrm>
          <a:prstGeom prst="rect">
            <a:avLst/>
          </a:prstGeom>
          <a:ln w="0">
            <a:noFill/>
          </a:ln>
        </p:spPr>
      </p:pic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cc00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2824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Script MT Bold"/>
              </a:rPr>
              <a:t>What is a narrow strip of land connecting two larger landmasses. It  has water on two sid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6" name="Picture 7" descr="http://upload.wikimedia.org/wikipedia/commons/thumb/8/81/Pm-map.png/450px-Pm-map.png"/>
          <p:cNvPicPr/>
          <p:nvPr/>
        </p:nvPicPr>
        <p:blipFill>
          <a:blip r:embed="rId1"/>
          <a:stretch/>
        </p:blipFill>
        <p:spPr>
          <a:xfrm>
            <a:off x="1447920" y="609480"/>
            <a:ext cx="6400800" cy="4705560"/>
          </a:xfrm>
          <a:prstGeom prst="rect">
            <a:avLst/>
          </a:prstGeom>
          <a:ln w="0">
            <a:noFill/>
          </a:ln>
        </p:spPr>
      </p:pic>
      <p:sp>
        <p:nvSpPr>
          <p:cNvPr id="16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028"/>
          <p:cNvSpPr/>
          <p:nvPr/>
        </p:nvSpPr>
        <p:spPr>
          <a:xfrm>
            <a:off x="274320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wcard Gothic"/>
              </a:rPr>
              <a:t>An Isth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029"/>
          <p:cNvSpPr/>
          <p:nvPr/>
        </p:nvSpPr>
        <p:spPr>
          <a:xfrm>
            <a:off x="4648320" y="9144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2" descr=""/>
          <p:cNvPicPr/>
          <p:nvPr/>
        </p:nvPicPr>
        <p:blipFill>
          <a:blip r:embed="rId2"/>
          <a:stretch/>
        </p:blipFill>
        <p:spPr>
          <a:xfrm>
            <a:off x="-12600" y="3986280"/>
            <a:ext cx="2901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129528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Showcard Gothic"/>
              </a:rPr>
              <a:t>What is a narrow body of water that connects two larger bodies of wa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39384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6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27990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2" descr="C:\Documents and Settings\sramsey\Local Settings\Temporary Internet Files\Content.IE5\FY2OJR7E\MC900438074[1].png"/>
          <p:cNvPicPr/>
          <p:nvPr/>
        </p:nvPicPr>
        <p:blipFill>
          <a:blip r:embed="rId3"/>
          <a:stretch/>
        </p:blipFill>
        <p:spPr>
          <a:xfrm>
            <a:off x="3200400" y="3352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568" name="Rectangle 3"/>
          <p:cNvSpPr/>
          <p:nvPr/>
        </p:nvSpPr>
        <p:spPr>
          <a:xfrm>
            <a:off x="6019920" y="3886200"/>
            <a:ext cx="25146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 for pictures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4"/>
          <p:cNvSpPr/>
          <p:nvPr/>
        </p:nvSpPr>
        <p:spPr>
          <a:xfrm>
            <a:off x="152280" y="3962520"/>
            <a:ext cx="28958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lick here for a glossary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3124080" y="5791320"/>
            <a:ext cx="28195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ogle.com/earth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3" name="Picture 6" descr="http://upload.wikimedia.org/wikipedia/commons/thumb/c/cf/Strait_of_gibraltar.jpg/300px-Strait_of_gibraltar.jpg"/>
          <p:cNvPicPr/>
          <p:nvPr/>
        </p:nvPicPr>
        <p:blipFill>
          <a:blip r:embed="rId1"/>
          <a:stretch/>
        </p:blipFill>
        <p:spPr>
          <a:xfrm>
            <a:off x="3200400" y="914400"/>
            <a:ext cx="5486400" cy="3876840"/>
          </a:xfrm>
          <a:prstGeom prst="rect">
            <a:avLst/>
          </a:prstGeom>
          <a:ln w="0">
            <a:noFill/>
          </a:ln>
        </p:spPr>
      </p:pic>
      <p:sp>
        <p:nvSpPr>
          <p:cNvPr id="1614" name="WordArt 3"/>
          <p:cNvSpPr txBox="1"/>
          <p:nvPr/>
        </p:nvSpPr>
        <p:spPr>
          <a:xfrm>
            <a:off x="304920" y="304920"/>
            <a:ext cx="2895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a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5" name="Line 4"/>
          <p:cNvSpPr/>
          <p:nvPr/>
        </p:nvSpPr>
        <p:spPr>
          <a:xfrm>
            <a:off x="2057400" y="1981080"/>
            <a:ext cx="2971800" cy="17528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WordArt 2"/>
          <p:cNvSpPr txBox="1"/>
          <p:nvPr/>
        </p:nvSpPr>
        <p:spPr>
          <a:xfrm>
            <a:off x="2362320" y="609480"/>
            <a:ext cx="487656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hat i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1617" name="WordArt 3"/>
          <p:cNvSpPr txBox="1"/>
          <p:nvPr/>
        </p:nvSpPr>
        <p:spPr>
          <a:xfrm>
            <a:off x="914400" y="2133720"/>
            <a:ext cx="7696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stream  or  river  that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f lows into a larger river.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Picture 7" descr="File:Glomma meets tributary Vorma.JPG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1619" name="Text Box 1027"/>
          <p:cNvSpPr/>
          <p:nvPr/>
        </p:nvSpPr>
        <p:spPr>
          <a:xfrm>
            <a:off x="1295280" y="20574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1028"/>
          <p:cNvSpPr/>
          <p:nvPr/>
        </p:nvSpPr>
        <p:spPr>
          <a:xfrm>
            <a:off x="1066680" y="15238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"/>
              </a:rPr>
              <a:t>A Tribut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029"/>
          <p:cNvSpPr/>
          <p:nvPr/>
        </p:nvSpPr>
        <p:spPr>
          <a:xfrm>
            <a:off x="2057400" y="2438280"/>
            <a:ext cx="175248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WordArt 4"/>
          <p:cNvSpPr txBox="1"/>
          <p:nvPr/>
        </p:nvSpPr>
        <p:spPr>
          <a:xfrm>
            <a:off x="990720" y="1219320"/>
            <a:ext cx="6738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What is part of a lar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body of water th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extends into land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and is smaller than a gulf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5" descr="indian-head-b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3" name="WordArt 6"/>
          <p:cNvSpPr txBox="1"/>
          <p:nvPr/>
        </p:nvSpPr>
        <p:spPr>
          <a:xfrm>
            <a:off x="2209680" y="297180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natural stream of water that runs through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5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iv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7" name="Picture 3" descr="river"/>
          <p:cNvPicPr/>
          <p:nvPr/>
        </p:nvPicPr>
        <p:blipFill>
          <a:blip r:embed="rId1"/>
          <a:stretch/>
        </p:blipFill>
        <p:spPr>
          <a:xfrm>
            <a:off x="1219320" y="1676520"/>
            <a:ext cx="6686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What is a large body of water that is completely surrounded by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2" descr="Maxwell%2520Bay%2520Lake%2520View%25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0" name="Text Box 3"/>
          <p:cNvSpPr/>
          <p:nvPr/>
        </p:nvSpPr>
        <p:spPr>
          <a:xfrm>
            <a:off x="2209680" y="18288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 Extra Bold"/>
              </a:rPr>
              <a:t>L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4"/>
          <p:cNvSpPr/>
          <p:nvPr/>
        </p:nvSpPr>
        <p:spPr>
          <a:xfrm>
            <a:off x="3124080" y="259092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Text Box 1026"/>
          <p:cNvSpPr/>
          <p:nvPr/>
        </p:nvSpPr>
        <p:spPr>
          <a:xfrm>
            <a:off x="1508040" y="118440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1027"/>
          <p:cNvSpPr/>
          <p:nvPr/>
        </p:nvSpPr>
        <p:spPr>
          <a:xfrm>
            <a:off x="1371600" y="2895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body of land completely surrounded by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19T19:54:34Z</dcterms:modified>
  <cp:revision>33</cp:revision>
  <dc:subject/>
  <dc:title>Slide 1</dc:title>
</cp:coreProperties>
</file>